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9.jpeg" ContentType="image/jpeg"/>
  <Override PartName="/ppt/media/image36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8A43-96B2-421D-A1DA-D48DF13E0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31CD-4F43-44A1-8557-CAA2A23D3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A920-AE74-4E1C-A6B5-79F611537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78FD-6B6C-4FCD-B3AE-930C8A369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F7B4-95F2-4772-893D-A5EF4B42AC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D7B2-9BE9-476F-AED4-20163A3E1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EFB1-7DF9-4383-B015-3ABA82AB0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4362-BA95-454E-B97A-47B1713A1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D943-A9CB-46C4-A368-AE112363D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AD50-F56E-43BA-8A0D-0D5A1AA86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30C1-3934-463A-8B3D-CD9BEE1396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E938-01D3-4111-9354-39BF053BC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1A1F-1CB7-45EE-A342-8FDA5B8B3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1744-FED8-43AE-BE00-A8D7B08E4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2AA6-8CF6-49B6-9AB7-E54B9BC10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576B-2982-4193-BD9C-336A8C84C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E61D-0CCA-4439-BF06-40AFDCC8D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A912-7980-4C61-AA11-D8722EC66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3416-483D-4191-8145-B62B21B5F1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A8B1-F431-4610-8054-994D9A835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E037-45CB-48DF-9C8D-D1BBC5009B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EB9F-5EA0-4D36-8152-5D0E19652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D52B-0D40-4B95-8E4B-E8C3291C82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5997-1AA3-4B14-88A8-601355D6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71DE-AC12-43A0-A19E-78C3C5AA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A7D7-DB75-4154-8733-D306FC5B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1987-3E4B-4F88-8160-67B8DE93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14D7-1B27-43C6-8D94-B574EDCF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ACB8-A4F7-4171-99ED-88637FBA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934D-66AB-4D01-987C-C05BA971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6158-30C1-497A-9676-C8C8471B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EFE0-D491-4D35-BF95-6BCFCE0E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9AED-2543-4DF2-A199-29B2D995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F9A-3C67-4856-9A32-912D50B6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1014-FD88-4F36-9D76-0376DD59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35A1-4164-41B7-8497-CA9932678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logs.timesunion.com/capitol/wp-content/uploads/2008/08/medicaid-budget-cuts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beta.laschoolboard.org/files/images/LAUSDLogo.gif&amp;imgrefurl=http://beta.laschoolboard.org/lausdlive&amp;usg=__O2kB7AT0QnY5Tx_lbS9qZZn66a4=&amp;h=838&amp;w=836&amp;sz=47&amp;hl=en&amp;start=1&amp;tbnid=CTAa645D6KR0PM:&amp;tbnh=144&amp;tbnw=144&amp;prev=/images?q=lausd&amp;gbv=2&amp;hl=en&amp;safe=active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www.amapm.com/html-images/LAUSD1.jpg" TargetMode="External"/><Relationship Id="rId6" Type="http://schemas.openxmlformats.org/officeDocument/2006/relationships/image" Target="../media/image23.jpeg"/><Relationship Id="rId7" Type="http://schemas.openxmlformats.org/officeDocument/2006/relationships/hyperlink" Target="http://www.lastudentscount.org/images/LAUSDmap.jpg" TargetMode="External"/><Relationship Id="rId8" Type="http://schemas.openxmlformats.org/officeDocument/2006/relationships/image" Target="../media/image24.jpeg"/><Relationship Id="rId9" Type="http://schemas.openxmlformats.org/officeDocument/2006/relationships/hyperlink" Target="http://www.wall.org/~larry/onion/prohibit.gif" TargetMode="External"/><Relationship Id="rId10" Type="http://schemas.openxmlformats.org/officeDocument/2006/relationships/image" Target="../media/image25.jpeg"/><Relationship Id="rId11" Type="http://schemas.openxmlformats.org/officeDocument/2006/relationships/hyperlink" Target="http://www.carnegie.org/reporter/09/images/literacy1.jpg" TargetMode="External"/><Relationship Id="rId12" Type="http://schemas.openxmlformats.org/officeDocument/2006/relationships/image" Target="../media/image26.jpeg"/><Relationship Id="rId13" Type="http://schemas.openxmlformats.org/officeDocument/2006/relationships/hyperlink" Target="http://images.google.com/imgres?imgurl=http://kramtark.files.wordpress.com/2007/09/cimg3628.jpg&amp;imgrefurl=http://kramtark.wordpress.com/2007/09/06/psych-101/&amp;usg=__bKIKUtuVFo2azB54LWCvPu6Zgek=&amp;h=768&amp;w=1024&amp;sz=286&amp;hl=en&amp;start=2&amp;tbnid=2o1SdTrrXontmM:&amp;tbnh=113&amp;tbnw=150&amp;prev=/images?q=large+class+size&amp;gbv=2&amp;hl=en&amp;safe=active" TargetMode="External"/><Relationship Id="rId14" Type="http://schemas.openxmlformats.org/officeDocument/2006/relationships/image" Target="../media/image27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ogs.e-rockford.com/applesauce/files/2009/01/layoff-notice.jpg&amp;imgrefurl=http://blogs.e-rockford.com/applesauce/2009/01/&amp;usg=__BpI6-iBG4Mp3IBcOVyIMDUoOatE=&amp;h=240&amp;w=240&amp;sz=22&amp;hl=en&amp;start=2&amp;tbnid=LeXQQFB0BUCpkM:&amp;tbnh=110&amp;tbnw=110&amp;prev=/images?q=layoff+notice&amp;gbv=2&amp;hl=en&amp;safe=active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ogs.e-rockford.com/applesauce/files/2009/01/layoff-notice.jpg&amp;imgrefurl=http://blogs.e-rockford.com/applesauce/2009/01/&amp;usg=__BpI6-iBG4Mp3IBcOVyIMDUoOatE=&amp;h=240&amp;w=240&amp;sz=22&amp;hl=en&amp;start=2&amp;tbnid=LeXQQFB0BUCpkM:&amp;tbnh=110&amp;tbnw=110&amp;prev=/images?q=layoff+notice&amp;gbv=2&amp;hl=en&amp;safe=active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tuhsc.edu/centers/aging/images/caringWEB.jpg&amp;imgrefurl=http://www.ttuhsc.edu/centers/aging/caregivers.aspx&amp;usg=__vRMpHozt16YDbuN6BFpsKT9M2bc=&amp;h=360&amp;w=540&amp;sz=39&amp;hl=en&amp;start=5&amp;tbnid=E3CXCM92sQD7DM:&amp;tbnh=88&amp;tbnw=132&amp;prev=/images?q=caring&amp;gbv=2&amp;hl=en&amp;safe=active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sy2.ucsd.edu/~kang/child%2520pictures/children-jump.jpg&amp;imgrefurl=http://psy2.ucsd.edu/~kang/Welcome%2520page.htm&amp;usg=__GJAfw9hosPYebSbd_tmE9IXN2Co=&amp;h=305&amp;w=400&amp;sz=33&amp;hl=en&amp;start=2&amp;tbnid=nsqhJiJv_L7gPM:&amp;tbnh=95&amp;tbnw=124&amp;prev=/images?q=children&amp;gbv=2&amp;hl=en&amp;safe=active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sy2.ucsd.edu/~kang/child%2520pictures/children-jump.jpg&amp;imgrefurl=http://psy2.ucsd.edu/~kang/Welcome%2520page.htm&amp;usg=__GJAfw9hosPYebSbd_tmE9IXN2Co=&amp;h=305&amp;w=400&amp;sz=33&amp;hl=en&amp;start=2&amp;tbnid=nsqhJiJv_L7gPM:&amp;tbnh=95&amp;tbnw=124&amp;prev=/images?q=children&amp;gbv=2&amp;hl=en&amp;safe=active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images.google.com/imgres?imgurl=http://www.santiagotimes.cl/santiagotimes/images/stories/easygallery/45/1195588650_high%2520school%2520students.jpg&amp;imgrefurl=http://www.santiagotimes.cl/santiagotimes/index.php/component/option,com_easygallery/Itemid,46/act,categories/cid,45/&amp;usg=__Lged65vaDR2pSpHatNoAtG_QKZw=&amp;h=375&amp;w=500&amp;sz=107&amp;hl=en&amp;start=4&amp;tbnid=36BDb_Jisw7coM:&amp;tbnh=98&amp;tbnw=130&amp;prev=/images?q=high+school+students&amp;gbv=2&amp;hl=en&amp;safe=active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uardianpoolfence.com/Photos/removable-mesh-pool-fences.jpg&amp;imgrefurl=http://www.guardianpoolfence.com/removable-mesh-pool-fences.html&amp;usg=__P-5jhysNPDQVZYIi1tT-oC6rqy0=&amp;h=265&amp;w=400&amp;sz=35&amp;hl=en&amp;start=27&amp;tbnid=ADb4qyZWVAWLzM:&amp;tbnh=82&amp;tbnw=124&amp;prev=/images?q=fence+by+children&amp;start=20&amp;gbv=2&amp;ndsp=20&amp;hl=en&amp;safe=active&amp;sa=N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uildingsurveyingsolutions.co.uk/data/rics/webimag/boundary_disputes.jpg&amp;imgrefurl=http://www.buildingsurveyingsolutions.co.uk/english/05-bound.htm&amp;usg=__Jx3Dj-zMdcMJMerGGnrGCLqJr3U=&amp;h=320&amp;w=430&amp;sz=7&amp;hl=en&amp;start=5&amp;tbnid=3cmkEHbQz3nBcM:&amp;tbnh=94&amp;tbnw=126&amp;prev=/images?q=boundary&amp;gbv=2&amp;hl=en&amp;safe=active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tonewall.nist.gov/CONTENT/wall199c.jpg&amp;imgrefurl=http://stonewall.nist.gov/CONTENT/Location.htm&amp;usg=__-nf1AKPL6nbuQy2Oq-9v-8_MZdA=&amp;h=946&amp;w=766&amp;sz=184&amp;hl=en&amp;start=5&amp;tbnid=efo8HJYwwZkTTM:&amp;tbnh=148&amp;tbnw=120&amp;prev=/images?q=wall&amp;gbv=2&amp;hl=en&amp;safe=active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ro.corbis.com/images/42-15207423.jpg?size=67&amp;uid=%257BD2B5CB1E-0C57-4CE3-8C1B-BA176D7BFD64%257D&amp;imgrefurl=http://pro.corbis.com/search/Enlargement.aspx?CID=isg&amp;mediauid=%257BD2B5CB1E-0C57-4CE3-8C1B-BA176D7BFD64%257D&amp;usg=__oyySA84uxm2Eg7Eh9R7EEUMTp2o=&amp;h=426&amp;w=640&amp;sz=133&amp;hl=en&amp;start=33&amp;tbnid=8Zj88HUJyXawBM:&amp;tbnh=91&amp;tbnw=137&amp;prev=/images?q=chain+link+fence+with+holes&amp;start=20&amp;gbv=2&amp;ndsp=20&amp;hl=en&amp;safe=active&amp;sa=N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hyperlink" Target="http://bp0.blogger.com/_AS1aErDzEdI/R0_e3bJ2WrI/AAAAAAAAA14/q8PxtB-AUo4/s1600-R/Bangladesh+2007+118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385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MCj04396130000[1]"/>
          <p:cNvPicPr/>
          <p:nvPr/>
        </p:nvPicPr>
        <p:blipFill>
          <a:blip r:embed="rId1">
            <a:lum bright="56000"/>
          </a:blip>
          <a:stretch/>
        </p:blipFill>
        <p:spPr>
          <a:xfrm>
            <a:off x="1219320" y="0"/>
            <a:ext cx="6705360" cy="7086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MPj04014790000[1]"/>
          <p:cNvPicPr/>
          <p:nvPr/>
        </p:nvPicPr>
        <p:blipFill>
          <a:blip r:embed="rId2"/>
          <a:stretch/>
        </p:blipFill>
        <p:spPr>
          <a:xfrm>
            <a:off x="2514600" y="1295280"/>
            <a:ext cx="4038480" cy="2691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066680" y="4226040"/>
            <a:ext cx="73915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Japanese Gothic"/>
              </a:rPr>
              <a:t>Local District 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828800" y="55227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Japanese Gothic"/>
              </a:rPr>
              <a:t>March 11,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52280" y="304920"/>
            <a:ext cx="868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Japanese Gothic"/>
              </a:rPr>
              <a:t>21st Century Learn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leadership"/>
          <p:cNvPicPr/>
          <p:nvPr/>
        </p:nvPicPr>
        <p:blipFill>
          <a:blip r:embed="rId1"/>
          <a:stretch/>
        </p:blipFill>
        <p:spPr>
          <a:xfrm>
            <a:off x="1752480" y="3657600"/>
            <a:ext cx="3238560" cy="2857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anonymous-leadership-5000373"/>
          <p:cNvPicPr/>
          <p:nvPr/>
        </p:nvPicPr>
        <p:blipFill>
          <a:blip r:embed="rId2"/>
          <a:stretch/>
        </p:blipFill>
        <p:spPr>
          <a:xfrm>
            <a:off x="3809880" y="304920"/>
            <a:ext cx="4551480" cy="327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Leadership-Pyramid"/>
          <p:cNvPicPr/>
          <p:nvPr/>
        </p:nvPicPr>
        <p:blipFill>
          <a:blip r:embed="rId3"/>
          <a:stretch/>
        </p:blipFill>
        <p:spPr>
          <a:xfrm>
            <a:off x="5638680" y="3352680"/>
            <a:ext cx="2619360" cy="3364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http://www.jewsonfirst.org/images/obama8.jpg"/>
          <p:cNvPicPr/>
          <p:nvPr/>
        </p:nvPicPr>
        <p:blipFill>
          <a:blip r:embed="rId4"/>
          <a:stretch/>
        </p:blipFill>
        <p:spPr>
          <a:xfrm>
            <a:off x="457200" y="228600"/>
            <a:ext cx="2865600" cy="35654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9"/>
          <p:cNvSpPr/>
          <p:nvPr/>
        </p:nvSpPr>
        <p:spPr>
          <a:xfrm>
            <a:off x="838080" y="2971800"/>
            <a:ext cx="28195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es, we ca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4648320" y="2971800"/>
            <a:ext cx="32004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ossible Budget Cut Impac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981080"/>
            <a:ext cx="3352680" cy="217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LAUSD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2286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62720" y="1295280"/>
            <a:ext cx="2438280" cy="2971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See full 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62120" y="3352680"/>
            <a:ext cx="2400120" cy="3200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See full size ima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905120" y="2666880"/>
            <a:ext cx="4038480" cy="2824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See full size imag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038480" y="228600"/>
            <a:ext cx="4572000" cy="2570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cimg3628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419720" y="3105000"/>
            <a:ext cx="4403520" cy="3303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4952880" y="4191120"/>
            <a:ext cx="2362320" cy="1191240"/>
          </a:xfrm>
          <a:prstGeom prst="rect">
            <a:avLst/>
          </a:prstGeom>
          <a:solidFill>
            <a:srgbClr val="f5d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20: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762120" y="2971800"/>
            <a:ext cx="2590560" cy="13129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ssistant Princip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3429000" y="1447920"/>
            <a:ext cx="4724280" cy="764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ed sta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layoff-noti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662040"/>
            <a:ext cx="6400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layoff-noti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662040"/>
            <a:ext cx="6400800" cy="59436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4"/>
          <p:cNvSpPr txBox="1"/>
          <p:nvPr/>
        </p:nvSpPr>
        <p:spPr>
          <a:xfrm>
            <a:off x="1905120" y="1600200"/>
            <a:ext cx="54864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March 15</a:t>
            </a:r>
            <a:endParaRPr b="1" i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caringWE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990720"/>
            <a:ext cx="7239240" cy="53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children-jum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685800"/>
            <a:ext cx="411480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children-jum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685800"/>
            <a:ext cx="4114800" cy="3151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1195588650_high%2520school%2520student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2389320"/>
            <a:ext cx="518148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removable-mesh-pool-fenc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644480"/>
            <a:ext cx="655308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boundary_disput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474920"/>
            <a:ext cx="609588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0000"/>
                </a:solidFill>
                <a:uFillTx/>
                <a:latin typeface="Arial"/>
              </a:rPr>
              <a:t>The iStuden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342864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DSCN0875"/>
          <p:cNvPicPr/>
          <p:nvPr/>
        </p:nvPicPr>
        <p:blipFill>
          <a:blip r:embed="rId1"/>
          <a:stretch/>
        </p:blipFill>
        <p:spPr>
          <a:xfrm>
            <a:off x="6324480" y="3200400"/>
            <a:ext cx="2608560" cy="26668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074680" cy="2766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59" name="Picture 7" descr="j0414104"/>
          <p:cNvPicPr/>
          <p:nvPr/>
        </p:nvPicPr>
        <p:blipFill>
          <a:blip r:embed="rId4"/>
          <a:stretch/>
        </p:blipFill>
        <p:spPr>
          <a:xfrm>
            <a:off x="2209680" y="2743200"/>
            <a:ext cx="4038840" cy="31719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990720" y="53352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llege Prepared and Career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http://www.tradesandtech.ethoscmg.com/Trades_and_Technology_Toolbox_paper_mill_Feb_2006.jpg"/>
          <p:cNvPicPr/>
          <p:nvPr/>
        </p:nvPicPr>
        <p:blipFill>
          <a:blip r:embed="rId5"/>
          <a:stretch/>
        </p:blipFill>
        <p:spPr>
          <a:xfrm>
            <a:off x="5486400" y="1847880"/>
            <a:ext cx="3162240" cy="2373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http://www.okanagan.bc.ca/Assets/Departments+(Education)/Trades+$!26+Apprenticeship/Welding/Images/Welding+TradesACata+Image+07439g+18.jpg"/>
          <p:cNvPicPr/>
          <p:nvPr/>
        </p:nvPicPr>
        <p:blipFill>
          <a:blip r:embed="rId6"/>
          <a:stretch/>
        </p:blipFill>
        <p:spPr>
          <a:xfrm>
            <a:off x="609480" y="4038480"/>
            <a:ext cx="1746360" cy="261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http://www.acmestores.com/images/chef_marc2.jpg"/>
          <p:cNvPicPr/>
          <p:nvPr/>
        </p:nvPicPr>
        <p:blipFill>
          <a:blip r:embed="rId7"/>
          <a:stretch/>
        </p:blipFill>
        <p:spPr>
          <a:xfrm>
            <a:off x="6553080" y="3962520"/>
            <a:ext cx="2219400" cy="2895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"/>
          <p:cNvPicPr/>
          <p:nvPr/>
        </p:nvPicPr>
        <p:blipFill>
          <a:blip r:embed="rId8"/>
          <a:stretch/>
        </p:blipFill>
        <p:spPr>
          <a:xfrm>
            <a:off x="2590920" y="1905120"/>
            <a:ext cx="1904760" cy="129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"/>
          <p:cNvPicPr/>
          <p:nvPr/>
        </p:nvPicPr>
        <p:blipFill>
          <a:blip r:embed="rId9"/>
          <a:stretch/>
        </p:blipFill>
        <p:spPr>
          <a:xfrm>
            <a:off x="685800" y="1600200"/>
            <a:ext cx="1371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wall199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91440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42-152074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143000"/>
            <a:ext cx="69343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533520" y="2286000"/>
            <a:ext cx="8001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udget Process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Hundred%2520dollar%2520bill"/>
          <p:cNvPicPr/>
          <p:nvPr/>
        </p:nvPicPr>
        <p:blipFill>
          <a:blip r:embed="rId1"/>
          <a:stretch/>
        </p:blipFill>
        <p:spPr>
          <a:xfrm>
            <a:off x="838080" y="1828800"/>
            <a:ext cx="7543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Hundred%2520dollar%2520bill"/>
          <p:cNvPicPr/>
          <p:nvPr/>
        </p:nvPicPr>
        <p:blipFill>
          <a:blip r:embed="rId1"/>
          <a:stretch/>
        </p:blipFill>
        <p:spPr>
          <a:xfrm>
            <a:off x="838080" y="1981080"/>
            <a:ext cx="7543800" cy="2971800"/>
          </a:xfrm>
          <a:prstGeom prst="rect">
            <a:avLst/>
          </a:prstGeom>
          <a:ln w="0">
            <a:noFill/>
          </a:ln>
        </p:spPr>
      </p:pic>
      <p:sp>
        <p:nvSpPr>
          <p:cNvPr id="130" name="WordArt 4"/>
          <p:cNvSpPr txBox="1"/>
          <p:nvPr/>
        </p:nvSpPr>
        <p:spPr>
          <a:xfrm>
            <a:off x="533520" y="1295280"/>
            <a:ext cx="807696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More categorical money</a:t>
            </a:r>
            <a:endParaRPr b="0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761976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ol pl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761976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ol pl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aren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761976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ol pl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aren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drive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761976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ol pl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aren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drive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761976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ol pl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aren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drive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 interest of the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696080" cy="102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verarching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udents will receive a guaranteed, viable curriculum so that by June, 2008, the following percentage of student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cluding subgroups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, SEL and Sp.Ed. Student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at proficient or advanced as evidenced by these NCLB 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Scho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.5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3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ddle Scho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6.0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7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a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6.0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7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761976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ol pl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aren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drive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 interest of the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outside the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0000"/>
                </a:solidFill>
                <a:uFillTx/>
                <a:latin typeface="Arial"/>
              </a:rPr>
              <a:t>The iStuden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342864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DSCN0875"/>
          <p:cNvPicPr/>
          <p:nvPr/>
        </p:nvPicPr>
        <p:blipFill>
          <a:blip r:embed="rId1"/>
          <a:stretch/>
        </p:blipFill>
        <p:spPr>
          <a:xfrm>
            <a:off x="6324480" y="3200400"/>
            <a:ext cx="2608560" cy="26668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074680" cy="2766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42" name="Picture 7" descr="j0414104"/>
          <p:cNvPicPr/>
          <p:nvPr/>
        </p:nvPicPr>
        <p:blipFill>
          <a:blip r:embed="rId4"/>
          <a:stretch/>
        </p:blipFill>
        <p:spPr>
          <a:xfrm>
            <a:off x="2209680" y="2743200"/>
            <a:ext cx="4038840" cy="31719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990720" y="53352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llege Prepared and Career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http://www.tradesandtech.ethoscmg.com/Trades_and_Technology_Toolbox_paper_mill_Feb_2006.jpg"/>
          <p:cNvPicPr/>
          <p:nvPr/>
        </p:nvPicPr>
        <p:blipFill>
          <a:blip r:embed="rId5"/>
          <a:stretch/>
        </p:blipFill>
        <p:spPr>
          <a:xfrm>
            <a:off x="5486400" y="1847880"/>
            <a:ext cx="3162240" cy="2373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http://www.okanagan.bc.ca/Assets/Departments+(Education)/Trades+$!26+Apprenticeship/Welding/Images/Welding+TradesACata+Image+07439g+18.jpg"/>
          <p:cNvPicPr/>
          <p:nvPr/>
        </p:nvPicPr>
        <p:blipFill>
          <a:blip r:embed="rId6"/>
          <a:stretch/>
        </p:blipFill>
        <p:spPr>
          <a:xfrm>
            <a:off x="609480" y="4038480"/>
            <a:ext cx="1746360" cy="2610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http://www.acmestores.com/images/chef_marc2.jpg"/>
          <p:cNvPicPr/>
          <p:nvPr/>
        </p:nvPicPr>
        <p:blipFill>
          <a:blip r:embed="rId7"/>
          <a:stretch/>
        </p:blipFill>
        <p:spPr>
          <a:xfrm>
            <a:off x="6553080" y="3962520"/>
            <a:ext cx="2219400" cy="2895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"/>
          <p:cNvPicPr/>
          <p:nvPr/>
        </p:nvPicPr>
        <p:blipFill>
          <a:blip r:embed="rId8"/>
          <a:stretch/>
        </p:blipFill>
        <p:spPr>
          <a:xfrm>
            <a:off x="2590920" y="1905120"/>
            <a:ext cx="1904760" cy="1295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"/>
          <p:cNvPicPr/>
          <p:nvPr/>
        </p:nvPicPr>
        <p:blipFill>
          <a:blip r:embed="rId9"/>
          <a:stretch/>
        </p:blipFill>
        <p:spPr>
          <a:xfrm>
            <a:off x="685800" y="1600200"/>
            <a:ext cx="1371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696080" cy="102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verarching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udents will receive a guaranteed, viable curriculum so that by June, 2008, the following percentage of student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cluding subgroups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, SEL and Sp.Ed. Student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at proficient or advanced as evidenced by these NCLB 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Scho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.5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3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ddle Scho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6.0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7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a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6.0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7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1219320" y="1600200"/>
            <a:ext cx="6933960" cy="308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eet AYP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arching Goal</a:t>
            </a:r>
            <a:br>
              <a:rPr sz="29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udents need to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37720" y="152388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life long learn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passio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ready to take ris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able to problem-solve and think crit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able to look at things differ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able to work independently and with 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cre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e and want to give back to the commun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integrity and self re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nnis Littke-The Real Goals of Educ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arching Goal</a:t>
            </a:r>
            <a:br>
              <a:rPr sz="29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udents need to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52388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life long learn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passio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ready to take ris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able to problem-solve and think crit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able to look at things differ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able to work independently and with 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cre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e and want to give back to the commun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integrity and self re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nnis Littke-The Real Goals of Educ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4"/>
          <p:cNvSpPr txBox="1"/>
          <p:nvPr/>
        </p:nvSpPr>
        <p:spPr>
          <a:xfrm>
            <a:off x="457200" y="1447920"/>
            <a:ext cx="84582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1st Century Learners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[iStock_000004404460XSmall_Target.jpg]"/>
          <p:cNvPicPr/>
          <p:nvPr/>
        </p:nvPicPr>
        <p:blipFill>
          <a:blip r:embed="rId1"/>
          <a:stretch/>
        </p:blipFill>
        <p:spPr>
          <a:xfrm>
            <a:off x="380880" y="609480"/>
            <a:ext cx="8455320" cy="561024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1066680" y="4191120"/>
            <a:ext cx="67820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uaranteed and viable 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31plc-515"/>
          <p:cNvPicPr/>
          <p:nvPr/>
        </p:nvPicPr>
        <p:blipFill>
          <a:blip r:embed="rId1"/>
          <a:stretch/>
        </p:blipFill>
        <p:spPr>
          <a:xfrm>
            <a:off x="152280" y="380880"/>
            <a:ext cx="8759880" cy="583416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838080" y="4343400"/>
            <a:ext cx="716292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rofessional Learning Comm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ontent Placeholder 3" descr="http://clerccenter.gallaudet.edu/AcademicTeams/team6-7-8/images/discussing.JPG"/>
          <p:cNvPicPr/>
          <p:nvPr/>
        </p:nvPicPr>
        <p:blipFill>
          <a:blip r:embed="rId1"/>
          <a:stretch/>
        </p:blipFill>
        <p:spPr>
          <a:xfrm>
            <a:off x="1828800" y="838080"/>
            <a:ext cx="4343400" cy="2971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ttp://www.nclr.org/Image/oral/two%20girls%20talking.jpg"/>
          <p:cNvPicPr/>
          <p:nvPr/>
        </p:nvPicPr>
        <p:blipFill>
          <a:blip r:embed="rId2"/>
          <a:stretch/>
        </p:blipFill>
        <p:spPr>
          <a:xfrm>
            <a:off x="4495680" y="2514600"/>
            <a:ext cx="4191120" cy="2743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http://tbn0.google.com/images?q=tbn:2VvtIPTki1VKyM:http://bp0.blogger.com/_AS1aErDzEdI/R0_e3bJ2WrI/AAAAAAAAA14/q8PxtB-AUo4/s1600-R/Bangladesh%2B2007%2B11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3581280"/>
            <a:ext cx="4114800" cy="2971800"/>
          </a:xfrm>
          <a:prstGeom prst="rect">
            <a:avLst/>
          </a:prstGeom>
          <a:ln w="0">
            <a:noFill/>
          </a:ln>
        </p:spPr>
      </p:pic>
      <p:sp>
        <p:nvSpPr>
          <p:cNvPr id="88" name="TextBox 6"/>
          <p:cNvSpPr/>
          <p:nvPr/>
        </p:nvSpPr>
        <p:spPr>
          <a:xfrm>
            <a:off x="5486400" y="1981080"/>
            <a:ext cx="24382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ersu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4572000" y="4038480"/>
            <a:ext cx="16765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rgu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4572000" y="5334120"/>
            <a:ext cx="3429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ferencing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609480" y="2209680"/>
            <a:ext cx="22100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scu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2743200" y="3429000"/>
            <a:ext cx="16765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2438280" y="304920"/>
            <a:ext cx="464832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uthentic Lite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5:46:11Z</dcterms:created>
  <dc:creator>martin.galindo</dc:creator>
  <dc:description/>
  <dc:language>en-US</dc:language>
  <cp:lastModifiedBy>Janice Stearns</cp:lastModifiedBy>
  <dcterms:modified xsi:type="dcterms:W3CDTF">2009-03-11T17:02:34Z</dcterms:modified>
  <cp:revision>14</cp:revision>
  <dc:subject/>
  <dc:title>Slide 1</dc:title>
</cp:coreProperties>
</file>